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wmf" ContentType="image/x-wmf"/>
  <Override PartName="/ppt/media/image5.wmf" ContentType="image/x-wmf"/>
  <Override PartName="/ppt/media/image6.png" ContentType="image/png"/>
  <Override PartName="/ppt/media/image7.jpeg" ContentType="image/jpe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31A43-C80C-4EFF-AACF-6D58153E0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1EA63-C4E9-4091-BBEE-236D69BD5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F8F43-0B90-4343-943F-867BA45FB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81888-D8C2-40A1-82A5-BE694A61A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348FD-D694-4BFB-9881-5025075C4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9F65C-8339-4FD5-B4BA-D3F21C325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7A5FC-96FF-4124-8314-7D4B2CDFE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7B351-9038-4AA3-AC14-6F3B01A65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066E5-F2AD-4DAD-ACA3-A28EB02BC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E4A14-E1A4-4560-AE01-C6B15938B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35DC5-BDC5-4469-82EB-E28741A59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4BE3E-3D5A-43F8-B854-4CF72FBD0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0AB82-A452-416B-BA32-7DB85F0EB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D54AB-C029-4354-9AC3-DCC3040BA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DE535-D6D3-4A41-8044-AF9C28B34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4A1ED-717B-43F3-881D-23AC6C1A4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3CBB9-2DC9-4492-9061-CEB0976F2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F3FAF-50A8-4185-9901-25A4DCD4D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5C556-DCF8-41A3-B53C-9F54509CE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7A0D2-BD4B-4157-841D-54C1EAC44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25614-AD39-446D-B496-F7AE08536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C02ED-3CFB-4197-BA24-513030326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6D801-507D-4815-B24E-9CDA5CCF6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4A3EA-9200-47A2-957C-1192BBF75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73FCB-D30A-4E19-9027-F1D95A901E96}" type="slidenum">
              <a:rPr b="0" lang="fr-F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D13D8-6F6B-46FD-9C48-FEA4D9083AEB}" type="slidenum">
              <a:rPr b="0" lang="fr-FR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4300" spc="-1" strike="noStrike">
                <a:solidFill>
                  <a:srgbClr val="333399"/>
                </a:solidFill>
                <a:latin typeface="Tahoma"/>
              </a:rPr>
              <a:t>Effet d’externalisation d’un signal audio reçu au casque</a:t>
            </a:r>
            <a:endParaRPr b="0" lang="en-US" sz="43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990720" y="4190760"/>
            <a:ext cx="716256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3000" spc="-1" strike="noStrike">
                <a:solidFill>
                  <a:srgbClr val="000000"/>
                </a:solidFill>
                <a:latin typeface="Tahoma"/>
              </a:rPr>
              <a:t>Ingénierie intégrée du son et de l’image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333399"/>
                </a:solidFill>
                <a:latin typeface="Tahoma"/>
              </a:rPr>
              <a:t>Vue d’ensemble pour l’implemen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9" name="filtres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7315200" cy="39816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4036680" y="3733920"/>
            <a:ext cx="226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Tahoma"/>
              </a:rPr>
              <a:t>Oreille gauc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000" spc="-1" strike="noStrike">
                <a:solidFill>
                  <a:srgbClr val="333399"/>
                </a:solidFill>
                <a:latin typeface="Tahoma"/>
              </a:rPr>
              <a:t>Implémentation sur DSP56303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631080" y="2090880"/>
            <a:ext cx="409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Tahoma"/>
              </a:rPr>
              <a:t>Détails lors de l’exposé o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883600" y="617220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Impact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158880" y="617220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Impact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org_memoire2" descr=""/>
          <p:cNvPicPr/>
          <p:nvPr/>
        </p:nvPicPr>
        <p:blipFill>
          <a:blip r:embed="rId1"/>
          <a:stretch/>
        </p:blipFill>
        <p:spPr>
          <a:xfrm>
            <a:off x="1676520" y="2514600"/>
            <a:ext cx="5867280" cy="36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333399"/>
                </a:solidFill>
                <a:latin typeface="Tahoma"/>
              </a:rPr>
              <a:t>Résulta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560" y="2133720"/>
            <a:ext cx="8574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Tahoma"/>
              </a:rPr>
              <a:t>Grâce à un petit logiciel de communication série, on peut choisir d’effectuer le traitement du signal ou n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Tahoma"/>
              </a:rPr>
              <a:t>Seule une écoute au casque permet de juger l’efficacité du trait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Tahoma"/>
              </a:rPr>
              <a:t>Bien que l’écoute soit fort subjective, on constate certains effets (augmentation des basses fréquences et diminution des hautes fréquences, …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Tahoma"/>
              </a:rPr>
              <a:t>Le signal audio semble être exteriorisé même si sa localisation pose problèm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333399"/>
                </a:solidFill>
                <a:latin typeface="Tahoma"/>
              </a:rPr>
              <a:t>Résulta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9" name="filtredirmes" descr=""/>
          <p:cNvPicPr/>
          <p:nvPr/>
        </p:nvPicPr>
        <p:blipFill>
          <a:blip r:embed="rId1"/>
          <a:stretch/>
        </p:blipFill>
        <p:spPr>
          <a:xfrm>
            <a:off x="1600200" y="3048120"/>
            <a:ext cx="5991120" cy="31557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1050480" y="2243160"/>
            <a:ext cx="219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Tahoma"/>
              </a:rPr>
              <a:t>Oreille direc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333399"/>
                </a:solidFill>
                <a:latin typeface="Tahoma"/>
              </a:rPr>
              <a:t>Résulta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"/>
          <p:cNvSpPr/>
          <p:nvPr/>
        </p:nvSpPr>
        <p:spPr>
          <a:xfrm>
            <a:off x="1036080" y="2243160"/>
            <a:ext cx="246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Tahoma"/>
              </a:rPr>
              <a:t>Oreille indirec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filtreindir" descr=""/>
          <p:cNvPicPr/>
          <p:nvPr/>
        </p:nvPicPr>
        <p:blipFill>
          <a:blip r:embed="rId1"/>
          <a:stretch/>
        </p:blipFill>
        <p:spPr>
          <a:xfrm>
            <a:off x="1295280" y="2819520"/>
            <a:ext cx="6437520" cy="34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600" spc="-1" strike="noStrike">
                <a:solidFill>
                  <a:srgbClr val="333399"/>
                </a:solidFill>
                <a:latin typeface="Tahoma"/>
              </a:rPr>
              <a:t>Aperçu des améliorations envisagé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3808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Tahoma"/>
              </a:rPr>
              <a:t>Améliorer l’implémentation des courb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Tahoma"/>
              </a:rPr>
              <a:t>Tenir compte de la phase des signaux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Tahoma"/>
              </a:rPr>
              <a:t>Implémenter 1ère, 2ème,… réflex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Tahoma"/>
              </a:rPr>
              <a:t>Effets du visage (courbe, rotation,…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333399"/>
                </a:solidFill>
                <a:latin typeface="Tahoma"/>
              </a:rPr>
              <a:t>Plan de l’énoncé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Tahoma"/>
              </a:rPr>
              <a:t>Introduction – description du problè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Tahoma"/>
              </a:rPr>
              <a:t>Objectif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Tahoma"/>
              </a:rPr>
              <a:t>Les étapes de conceptions 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Tahoma"/>
              </a:rPr>
              <a:t>Mesures en chambre sour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Tahoma"/>
              </a:rPr>
              <a:t>Mise en équation des filt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Tahoma"/>
              </a:rPr>
              <a:t>Implémentation sur DSP563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Tahoma"/>
              </a:rPr>
              <a:t>Résulta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Tahoma"/>
              </a:rPr>
              <a:t>Aperçu des améliorations envisagé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333399"/>
                </a:solidFill>
                <a:latin typeface="Tahoma"/>
              </a:rPr>
              <a:t>Introduction – description du problèm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Tahoma"/>
              </a:rPr>
              <a:t>Les signaux audio ne sont généralement pas destinés à une écoute au casqu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Tahoma"/>
              </a:rPr>
              <a:t>Le casque supprime toute information spatiale des signaux sans traitement approprié de ceux-ci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Tahoma"/>
              </a:rPr>
              <a:t>La suppression de cette information spatiale crée une sensation « désagréable », non naturelle à l’écout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000" spc="-1" strike="noStrike">
                <a:solidFill>
                  <a:srgbClr val="333399"/>
                </a:solidFill>
                <a:latin typeface="Tahoma"/>
              </a:rPr>
              <a:t>Objectif du travail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2017440"/>
            <a:ext cx="7888320" cy="21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Tahoma"/>
              </a:rPr>
              <a:t>Effectuer un traitement numérique du signal audio qui permettra de d’extérioriser le signal audio lors de son écoute au casqu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7" name="dh_diagram_2" descr=""/>
          <p:cNvPicPr/>
          <p:nvPr/>
        </p:nvPicPr>
        <p:blipFill>
          <a:blip r:embed="rId1"/>
          <a:stretch/>
        </p:blipFill>
        <p:spPr>
          <a:xfrm>
            <a:off x="5562720" y="4191120"/>
            <a:ext cx="2286000" cy="187488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3657600" y="5257800"/>
            <a:ext cx="1523880" cy="152280"/>
          </a:xfrm>
          <a:prstGeom prst="leftRightArrow">
            <a:avLst>
              <a:gd name="adj1" fmla="val 50000"/>
              <a:gd name="adj2" fmla="val 199215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dh_diagram_1" descr=""/>
          <p:cNvPicPr/>
          <p:nvPr/>
        </p:nvPicPr>
        <p:blipFill>
          <a:blip r:embed="rId2"/>
          <a:stretch/>
        </p:blipFill>
        <p:spPr>
          <a:xfrm>
            <a:off x="990720" y="4191120"/>
            <a:ext cx="2286000" cy="18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000" spc="-1" strike="noStrike">
                <a:solidFill>
                  <a:srgbClr val="333399"/>
                </a:solidFill>
                <a:latin typeface="Tahoma"/>
              </a:rPr>
              <a:t>Les étapes de conception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1" name="essai" descr=""/>
          <p:cNvPicPr/>
          <p:nvPr/>
        </p:nvPicPr>
        <p:blipFill>
          <a:blip r:embed="rId1"/>
          <a:stretch/>
        </p:blipFill>
        <p:spPr>
          <a:xfrm>
            <a:off x="4267080" y="2971800"/>
            <a:ext cx="4267440" cy="31510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1114560" y="2243160"/>
            <a:ext cx="6281280" cy="275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Tahoma"/>
              </a:rPr>
              <a:t>2 types de traitement pour chaque oreille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fr-BE" sz="2400" spc="-1" strike="noStrike">
                <a:solidFill>
                  <a:srgbClr val="000000"/>
                </a:solidFill>
                <a:latin typeface="Tahoma"/>
              </a:rPr>
              <a:t>Les sons dir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fr-BE" sz="2400" spc="-1" strike="noStrike">
                <a:solidFill>
                  <a:srgbClr val="000000"/>
                </a:solidFill>
                <a:latin typeface="Tahoma"/>
              </a:rPr>
              <a:t>Les sons indir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333399"/>
                </a:solidFill>
                <a:latin typeface="Tahoma"/>
              </a:rPr>
              <a:t>Mesures en chambre sourd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4" name="testdirect60" descr=""/>
          <p:cNvPicPr/>
          <p:nvPr/>
        </p:nvPicPr>
        <p:blipFill>
          <a:blip r:embed="rId1"/>
          <a:stretch/>
        </p:blipFill>
        <p:spPr>
          <a:xfrm>
            <a:off x="1523880" y="2971800"/>
            <a:ext cx="5991480" cy="315612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864720" y="2243160"/>
            <a:ext cx="513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Tahoma"/>
              </a:rPr>
              <a:t>Sons directs – rayons incidents 60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333399"/>
                </a:solidFill>
                <a:latin typeface="Tahoma"/>
              </a:rPr>
              <a:t>Mesures en chambre sourd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847080" y="2243160"/>
            <a:ext cx="557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Tahoma"/>
              </a:rPr>
              <a:t>Sons indirects – rayons incidents 120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testindirect120" descr=""/>
          <p:cNvPicPr/>
          <p:nvPr/>
        </p:nvPicPr>
        <p:blipFill>
          <a:blip r:embed="rId1"/>
          <a:stretch/>
        </p:blipFill>
        <p:spPr>
          <a:xfrm>
            <a:off x="1676520" y="2895480"/>
            <a:ext cx="5991120" cy="31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000" spc="-1" strike="noStrike">
                <a:solidFill>
                  <a:srgbClr val="333399"/>
                </a:solidFill>
                <a:latin typeface="Tahoma"/>
              </a:rPr>
              <a:t>Mise en équation des filtre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Tahoma"/>
              </a:rPr>
              <a:t>Oreille direc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Tahoma"/>
              </a:rPr>
              <a:t>Filtre passe-ban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Tahoma"/>
              </a:rPr>
              <a:t>Filtre de Chamberl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Tahoma"/>
              </a:rPr>
              <a:t>Oreille indirec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Tahoma"/>
              </a:rPr>
              <a:t>Déla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Tahoma"/>
              </a:rPr>
              <a:t>Filtre passe-ban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Tahoma"/>
              </a:rPr>
              <a:t>Filtre passe-b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Tahoma"/>
              </a:rPr>
              <a:t>Atténu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000" spc="-1" strike="noStrike">
                <a:solidFill>
                  <a:srgbClr val="333399"/>
                </a:solidFill>
                <a:latin typeface="Tahoma"/>
              </a:rPr>
              <a:t>Fonctions de transfert des filtre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4191120" y="2590920"/>
                <a:ext cx="3962160" cy="94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P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β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α</m:t>
                            </m:r>
                          </m:e>
                        </m:d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α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4191120" y="5334120"/>
                <a:ext cx="4114800" cy="87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h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z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α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λz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βz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4038480" y="3886200"/>
                <a:ext cx="419112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P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z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αz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5" name=""/>
          <p:cNvSpPr/>
          <p:nvPr/>
        </p:nvSpPr>
        <p:spPr>
          <a:xfrm>
            <a:off x="270000" y="5410080"/>
            <a:ext cx="402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Tahoma"/>
              </a:rPr>
              <a:t>Filtre de Chamber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14920" y="2743200"/>
            <a:ext cx="369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Tahoma"/>
              </a:rPr>
              <a:t>Filtre passe-ban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80880" y="4038480"/>
            <a:ext cx="335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Tahoma"/>
              </a:rPr>
              <a:t>Filtre passe-b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6T17:55:57Z</dcterms:created>
  <dc:creator>Lahaye Eric</dc:creator>
  <dc:description/>
  <dc:language>en-US</dc:language>
  <cp:lastModifiedBy>Lahaye Eric</cp:lastModifiedBy>
  <dcterms:modified xsi:type="dcterms:W3CDTF">2003-06-18T14:47:40Z</dcterms:modified>
  <cp:revision>22</cp:revision>
  <dc:subject/>
  <dc:title>Ingénierie intégrée du son et de l’image</dc:title>
</cp:coreProperties>
</file>